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amera.wav" ContentType="audio/x-wav"/>
  <Override PartName="/ppt/media/image14.png" ContentType="image/png"/>
  <Override PartName="/ppt/media/projctor.wav" ContentType="audio/x-wav"/>
  <Override PartName="/ppt/media/image13.png" ContentType="image/png"/>
  <Override PartName="/ppt/media/image1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720-D3CC-42B1-A8FB-841D34A3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DC9-455D-45C7-B017-C5018E5C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972-1A79-47C1-B689-00DA3AC1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0BF-4B2C-4A25-9F4A-4A5CC318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90E-DD71-4757-A660-424A8AA7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F14-A798-4366-A2AA-E13D87D6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DE7-5DF6-4DEE-879C-E90D08FD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747-89D6-4775-B33D-EEA94A2A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5F6-835A-41F7-926A-D82F91AE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DA4-3CEE-4E8D-90A9-7638333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E5F-99A6-4FF6-A7C6-B82F0C4B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D07-19F6-48EC-AC1F-38D0CAD3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ADC8-982C-4FA3-9ED0-3205F10442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38080" y="152280"/>
            <a:ext cx="7620120" cy="2667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0" spc="-1" strike="noStrike">
                <a:solidFill>
                  <a:srgbClr val="ccff33"/>
                </a:solidFill>
                <a:latin typeface="Arial"/>
              </a:rPr>
              <a:t>FUNÇÕES </a:t>
            </a:r>
            <a:br>
              <a:rPr sz="8000"/>
            </a:br>
            <a:r>
              <a:rPr b="1" lang="pt-PT" sz="8000" spc="-1" strike="noStrike">
                <a:solidFill>
                  <a:srgbClr val="ccff33"/>
                </a:solidFill>
                <a:latin typeface="Arial"/>
              </a:rPr>
              <a:t>QUÍMIC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2895480"/>
            <a:ext cx="830556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00"/>
                </a:solidFill>
                <a:latin typeface="Arial"/>
              </a:rPr>
              <a:t>Definição: </a:t>
            </a:r>
            <a:r>
              <a:rPr b="0" i="1" lang="pt-BR" sz="3600" spc="-1" strike="noStrike">
                <a:solidFill>
                  <a:srgbClr val="003300"/>
                </a:solidFill>
                <a:latin typeface="Times New Roman"/>
              </a:rPr>
              <a:t>substâncias com propriedades químicas semelh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postos Coval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corre o processo de ionização= formação de 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ta para a direita 3"/>
          <p:cNvSpPr/>
          <p:nvPr/>
        </p:nvSpPr>
        <p:spPr>
          <a:xfrm>
            <a:off x="2627280" y="4437000"/>
            <a:ext cx="2808360" cy="72072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ângulo 4"/>
          <p:cNvSpPr/>
          <p:nvPr/>
        </p:nvSpPr>
        <p:spPr>
          <a:xfrm>
            <a:off x="3434040" y="4005360"/>
            <a:ext cx="92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5"/>
          <p:cNvSpPr/>
          <p:nvPr/>
        </p:nvSpPr>
        <p:spPr>
          <a:xfrm>
            <a:off x="978840" y="429264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ângulo 6"/>
          <p:cNvSpPr/>
          <p:nvPr/>
        </p:nvSpPr>
        <p:spPr>
          <a:xfrm>
            <a:off x="5828760" y="4365720"/>
            <a:ext cx="20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+  Cl</a:t>
            </a:r>
            <a:r>
              <a:rPr b="0" lang="pt-BR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priedades do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agem com ácidos, formando sal e água ( Reação de neutraliza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857680" y="2786040"/>
            <a:ext cx="3724200" cy="2752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2971800" y="5710320"/>
            <a:ext cx="3886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33520" y="1905120"/>
            <a:ext cx="8458200" cy="1765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Ácidos:</a:t>
            </a:r>
            <a:r>
              <a:rPr b="0" i="1" lang="pt-BR" sz="3000" spc="-1" strike="noStrike">
                <a:solidFill>
                  <a:srgbClr val="003300"/>
                </a:solidFill>
                <a:latin typeface="Times New Roman"/>
              </a:rPr>
              <a:t> substâncias que em meio aquoso se ionizam originando apenas cátions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H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  <a:ea typeface="Arial"/>
              </a:rPr>
              <a:t>+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  <a:ea typeface="Arial"/>
              </a:rPr>
              <a:t>(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H</a:t>
            </a:r>
            <a:r>
              <a:rPr b="1" lang="pt-BR" sz="3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O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  <a:ea typeface="Arial"/>
              </a:rPr>
              <a:t>+</a:t>
            </a:r>
            <a:r>
              <a:rPr b="0" lang="pt-BR" sz="3000" spc="-1" strike="noStrike">
                <a:solidFill>
                  <a:srgbClr val="003300"/>
                </a:solidFill>
                <a:latin typeface="Arial"/>
                <a:ea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Ex.: HCl    </a:t>
            </a:r>
            <a:r>
              <a:rPr b="1" lang="pt-BR" sz="30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    H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  <a:ea typeface="Arial"/>
              </a:rPr>
              <a:t>+  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+   Cl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914400" y="304920"/>
            <a:ext cx="7543800" cy="12189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ff33"/>
                </a:solidFill>
                <a:latin typeface="Arial"/>
              </a:rPr>
              <a:t>Conceitos de Arrhenius: Ácidos, Hidretos e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3581280"/>
            <a:ext cx="8458200" cy="2397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Bases:</a:t>
            </a:r>
            <a:r>
              <a:rPr b="0" i="1" lang="pt-BR" sz="3000" spc="-1" strike="noStrike">
                <a:solidFill>
                  <a:srgbClr val="003300"/>
                </a:solidFill>
                <a:latin typeface="Times New Roman"/>
              </a:rPr>
              <a:t> Compostos iônicos que em meio aquoso se dissociam liberando exclusivamente ânions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OH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</a:rPr>
              <a:t>-</a:t>
            </a:r>
            <a:r>
              <a:rPr b="0" i="1" lang="pt-BR" sz="3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Ex.: NaOH   </a:t>
            </a:r>
            <a:r>
              <a:rPr b="1" lang="pt-BR" sz="30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 Na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</a:rPr>
              <a:t>+</a:t>
            </a:r>
            <a:r>
              <a:rPr b="1" lang="pt-BR" sz="3000" spc="-1" strike="noStrike">
                <a:solidFill>
                  <a:srgbClr val="003300"/>
                </a:solidFill>
                <a:latin typeface="Arial"/>
              </a:rPr>
              <a:t> + OH</a:t>
            </a:r>
            <a:r>
              <a:rPr b="1" lang="pt-BR" sz="3000" spc="-1" strike="noStrike" baseline="30000">
                <a:solidFill>
                  <a:srgbClr val="0033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44720" y="299736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00"/>
                </a:solidFill>
                <a:latin typeface="Arial"/>
              </a:rPr>
              <a:t>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60720" y="537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00"/>
                </a:solidFill>
                <a:latin typeface="Arial"/>
              </a:rPr>
              <a:t>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0" y="-270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Arial"/>
              </a:rPr>
              <a:t>IONIZAÇÃO E DISSOC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34136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HClO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692360" y="1339920"/>
            <a:ext cx="1079280" cy="504720"/>
          </a:xfrm>
          <a:prstGeom prst="rightArrow">
            <a:avLst>
              <a:gd name="adj1" fmla="val 50000"/>
              <a:gd name="adj2" fmla="val 534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619280" y="37162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835280" y="1413000"/>
            <a:ext cx="93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822400" y="1341360"/>
            <a:ext cx="282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 Cl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19120" y="204624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1690560" y="2060640"/>
            <a:ext cx="1152720" cy="431640"/>
          </a:xfrm>
          <a:prstGeom prst="rightArrow">
            <a:avLst>
              <a:gd name="adj1" fmla="val 50000"/>
              <a:gd name="adj2" fmla="val 66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906560" y="208440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843280" y="206064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 S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39640" y="262260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PO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1763640" y="277956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1835280" y="2805120"/>
            <a:ext cx="93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2843280" y="269388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 P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539640" y="319716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Ca(OH)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2050920" y="328464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122560" y="330840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182760" y="328464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2O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468360" y="377352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Ag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7"/>
          <p:cNvSpPr/>
          <p:nvPr/>
        </p:nvSpPr>
        <p:spPr>
          <a:xfrm>
            <a:off x="1619280" y="3860640"/>
            <a:ext cx="1081080" cy="43200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1763640" y="388476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771640" y="386064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+ OH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468360" y="434988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pt-BR" sz="2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1"/>
          <p:cNvSpPr/>
          <p:nvPr/>
        </p:nvSpPr>
        <p:spPr>
          <a:xfrm>
            <a:off x="1835280" y="4365720"/>
            <a:ext cx="1081080" cy="484200"/>
          </a:xfrm>
          <a:prstGeom prst="rightArrow">
            <a:avLst>
              <a:gd name="adj1" fmla="val 50000"/>
              <a:gd name="adj2" fmla="val 558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1979640" y="443700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967120" y="436572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 O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539640" y="5013360"/>
            <a:ext cx="28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3300"/>
                </a:solidFill>
                <a:latin typeface="Arial"/>
              </a:rPr>
              <a:t>EXCE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1671480" y="5445000"/>
            <a:ext cx="282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>
            <a:off x="2987640" y="5680080"/>
            <a:ext cx="936720" cy="196920"/>
          </a:xfrm>
          <a:prstGeom prst="rightArrow">
            <a:avLst>
              <a:gd name="adj1" fmla="val 50000"/>
              <a:gd name="adj2" fmla="val 118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3059280" y="5397480"/>
            <a:ext cx="93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3975120" y="543096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0" lang="pt-BR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+  HPO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0"/>
          <p:cNvSpPr/>
          <p:nvPr/>
        </p:nvSpPr>
        <p:spPr>
          <a:xfrm>
            <a:off x="1619280" y="593424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2"/>
          <p:cNvSpPr/>
          <p:nvPr/>
        </p:nvSpPr>
        <p:spPr>
          <a:xfrm>
            <a:off x="2987640" y="6184800"/>
            <a:ext cx="936720" cy="196920"/>
          </a:xfrm>
          <a:prstGeom prst="rightArrow">
            <a:avLst>
              <a:gd name="adj1" fmla="val 50000"/>
              <a:gd name="adj2" fmla="val 118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2987640" y="5900760"/>
            <a:ext cx="936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4"/>
          <p:cNvSpPr/>
          <p:nvPr/>
        </p:nvSpPr>
        <p:spPr>
          <a:xfrm>
            <a:off x="3924360" y="5934240"/>
            <a:ext cx="28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pt-BR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+  H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8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CLASSIFICAÇÃO DOS Á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560" y="126792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º DE 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Bi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er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Quater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484360" y="170028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, HCl, H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56000" y="212580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CN, HN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203640" y="256536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e(CN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OC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24000" y="2997360"/>
            <a:ext cx="704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RESENÇA DE OXIGÊ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Oxiá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Hidráci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916360" y="342900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987640" y="386064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Br, HCN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24000" y="4292640"/>
            <a:ext cx="813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3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º DE HIDROGÊNIOS IONIZÁVEIS (H</a:t>
            </a:r>
            <a:r>
              <a:rPr b="0" lang="pt-BR" sz="2800" spc="-1" strike="noStrike" baseline="30000">
                <a:solidFill>
                  <a:srgbClr val="009999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Monoácido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Diá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riácido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etrá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132000" y="4724280"/>
            <a:ext cx="31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F, HN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CN, ...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H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2700360" y="515772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H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916360" y="6021360"/>
            <a:ext cx="282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e(CN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7288200" y="63025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007480" y="109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2771640" y="55832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7620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50920" y="333360"/>
            <a:ext cx="704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4)   GRAU DE IONIZAÇÃO (FORÇA) - </a:t>
            </a:r>
            <a:r>
              <a:rPr b="0" lang="el-GR" sz="2800" spc="-1" strike="noStrike">
                <a:solidFill>
                  <a:srgbClr val="009999"/>
                </a:solidFill>
                <a:latin typeface="Book Antiqua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hidr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oxi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334880" y="1125360"/>
            <a:ext cx="188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a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627280" y="119700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Cl, HBr e HI (so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03640" y="170028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F ap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700360" y="21337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de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343520" y="2852640"/>
            <a:ext cx="74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-se nº de Oxig – nº de 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se diferença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403280" y="328464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fr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382760" y="357336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ácido mod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382760" y="3860640"/>
            <a:ext cx="31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ou +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ácido f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902160" y="407664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258920" y="4581360"/>
            <a:ext cx="40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3 =0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fr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1258920" y="486900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2 =1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mod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258920" y="5157720"/>
            <a:ext cx="40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2 =2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f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1258920" y="5438880"/>
            <a:ext cx="40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1 =3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ácido f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258920" y="5870520"/>
            <a:ext cx="42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H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– 2 =1  </a:t>
            </a:r>
            <a:r>
              <a:rPr b="0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ácido mod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1258920" y="6157800"/>
            <a:ext cx="42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*H</a:t>
            </a:r>
            <a:r>
              <a:rPr b="0" lang="pt-BR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pt-BR" sz="18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– 1 =1  </a:t>
            </a:r>
            <a:r>
              <a:rPr b="0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ácido mod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0" y="-270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CLASSIFICAÇÃO DA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50920" y="1197000"/>
            <a:ext cx="704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º DE HIDROXILAS (OH</a:t>
            </a:r>
            <a:r>
              <a:rPr b="0" lang="pt-BR" sz="2800" spc="-1" strike="noStrike" baseline="30000">
                <a:solidFill>
                  <a:srgbClr val="009999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Monobase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Dib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ribase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Tetrabase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968560" y="162864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OH, AgOH, N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H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556000" y="206064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Zn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556000" y="2492280"/>
            <a:ext cx="31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i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916360" y="2924280"/>
            <a:ext cx="36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b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n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Sn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324000" y="3692520"/>
            <a:ext cx="813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2)  SOLUBILIDADE EM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Solúvei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Pouco solúvei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Insolúve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2556000" y="4141800"/>
            <a:ext cx="640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s metais alcalinos (NaOH, LiOH ...) e amônio (N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492360" y="4575240"/>
            <a:ext cx="54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s metais alc-terrosos – Ca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Sr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771640" y="50068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dem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250920" y="596880"/>
            <a:ext cx="704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3)  GRAU DE DISSOCIAÇÃO (FORÇA) - </a:t>
            </a:r>
            <a:r>
              <a:rPr b="0" lang="el-GR" sz="2800" spc="-1" strike="noStrike">
                <a:solidFill>
                  <a:srgbClr val="009999"/>
                </a:solidFill>
                <a:latin typeface="Book Antiqua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Forte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Fra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24000" y="1073160"/>
            <a:ext cx="518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das de por metais alcalinos e alc.-terr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OH, LiOH, Ca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g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124000" y="2355840"/>
            <a:ext cx="518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dem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OH, N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H, Fe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l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50920" y="3476520"/>
            <a:ext cx="8713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4)  VOLATILIDADE (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facilidade em evaporar = PE baixo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Volátil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Fixas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124000" y="393372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mente N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979640" y="5235480"/>
            <a:ext cx="518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dem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OH, NaOH, Fe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l(OH)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-270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APLICAÇÕES DE ÁCIDOS E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4000" y="1125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900000" y="1197000"/>
            <a:ext cx="152640" cy="36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116000" y="119700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rroer e gravar vid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24000" y="18446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1116000" y="1916280"/>
            <a:ext cx="142920" cy="433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1160 h 433080"/>
              <a:gd name="textAreaBottom" fmla="*/ 421920 h 43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1258920" y="19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Putrefação (decomposição) de matéria orgâ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24000" y="263700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1116000" y="2565360"/>
            <a:ext cx="71280" cy="100800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1258920" y="2492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mercialmente conhecido como ácido muriá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258920" y="2852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mponente do suco gástr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1258920" y="321300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Limpeza de pisos e chapas metá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395280" y="376380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C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"/>
          <p:cNvSpPr/>
          <p:nvPr/>
        </p:nvSpPr>
        <p:spPr>
          <a:xfrm>
            <a:off x="1179360" y="3716280"/>
            <a:ext cx="152640" cy="647640"/>
          </a:xfrm>
          <a:custGeom>
            <a:avLst/>
            <a:gdLst>
              <a:gd name="textAreaLeft" fmla="*/ 97560 w 152640"/>
              <a:gd name="textAreaRight" fmla="*/ 153000 w 1526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1403280" y="3789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Gás le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Em condenados à mor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447840" y="46274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C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4"/>
          <p:cNvSpPr/>
          <p:nvPr/>
        </p:nvSpPr>
        <p:spPr>
          <a:xfrm>
            <a:off x="2116080" y="4653000"/>
            <a:ext cx="152280" cy="431640"/>
          </a:xfrm>
          <a:custGeom>
            <a:avLst/>
            <a:gdLst>
              <a:gd name="textAreaLeft" fmla="*/ 97200 w 152280"/>
              <a:gd name="textAreaRight" fmla="*/ 152640 w 1522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268360" y="465300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Principal componente do vinagre ( tempero)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395280" y="5276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>
            <a:off x="1547640" y="5302080"/>
            <a:ext cx="152640" cy="4320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1692360" y="536724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Gás de refrigerantes e água mineral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395280" y="59245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0"/>
          <p:cNvSpPr/>
          <p:nvPr/>
        </p:nvSpPr>
        <p:spPr>
          <a:xfrm>
            <a:off x="1547640" y="5950080"/>
            <a:ext cx="216000" cy="718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1692360" y="59500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Presente em bateria de automóveis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1692360" y="62308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Fabricação de fertilizantes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95280" y="18900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PO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1549440" y="115920"/>
            <a:ext cx="214200" cy="792000"/>
          </a:xfrm>
          <a:custGeom>
            <a:avLst/>
            <a:gdLst>
              <a:gd name="textAreaLeft" fmla="*/ 136800 w 214200"/>
              <a:gd name="textAreaRight" fmla="*/ 214560 w 2142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63640" y="1159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Estabilizante de refrigerantes do tipo 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763640" y="549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Fabricação de fertilizantes (superfosfa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24000" y="112536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HNO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1332000" y="1052640"/>
            <a:ext cx="215640" cy="79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1547640" y="112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Fabricação de salitre para explosivos como o T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1547640" y="148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Fabricação de fertiliz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324000" y="220500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Ca(OH)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1620720" y="2060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835280" y="206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nhecido como “cal apagada ” ou “cal extinta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1835280" y="2421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Em pinturas de meios-fios, paredes e muros (caiaçã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395280" y="30686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Mg(OH)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1763640" y="3068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1979640" y="30621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Princípio ativo do leite de magnés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1979640" y="3429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Usado como laxante e antiácido estoma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95280" y="407664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1547640" y="400536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692360" y="4076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nhecido como soda cáust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395280" y="5203800"/>
            <a:ext cx="28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pt-BR" sz="24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7"/>
          <p:cNvSpPr/>
          <p:nvPr/>
        </p:nvSpPr>
        <p:spPr>
          <a:xfrm>
            <a:off x="1692360" y="508464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1908000" y="51498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Conhecido como amonía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1908000" y="55101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Em alguns produtos de limpeza e tintura de cabel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1692360" y="435780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Arial"/>
              </a:rPr>
              <a:t>Usado na fabricação de sabão e desentupimentos de tubul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1.bp.blogspot.com/_OfUP54JM53I/Sa14rzrKM8I/AAAAAAAAAHM/NxDDvjpc8qU/s400/acido.jpg"/>
          <p:cNvPicPr/>
          <p:nvPr/>
        </p:nvPicPr>
        <p:blipFill>
          <a:blip r:embed="rId1"/>
          <a:stretch/>
        </p:blipFill>
        <p:spPr>
          <a:xfrm>
            <a:off x="1476360" y="1052640"/>
            <a:ext cx="6097680" cy="3671640"/>
          </a:xfrm>
          <a:prstGeom prst="rect">
            <a:avLst/>
          </a:prstGeom>
          <a:ln w="0">
            <a:noFill/>
          </a:ln>
        </p:spPr>
      </p:pic>
      <p:sp>
        <p:nvSpPr>
          <p:cNvPr id="44" name="Retângulo 2"/>
          <p:cNvSpPr/>
          <p:nvPr/>
        </p:nvSpPr>
        <p:spPr>
          <a:xfrm>
            <a:off x="2050920" y="260280"/>
            <a:ext cx="49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Ácidos e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3"/>
          <p:cNvSpPr/>
          <p:nvPr/>
        </p:nvSpPr>
        <p:spPr>
          <a:xfrm>
            <a:off x="826920" y="4941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CIDOS =  São substancias que apresentam sabor azedo, tais como o suco de limão e o vina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00000" y="57358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S= São substancias que possuem um sabo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stringe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ais como banana verde, caju e do caqui sem cur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Botão de ação: Filme 2"/>
          <p:cNvSpPr/>
          <p:nvPr/>
        </p:nvSpPr>
        <p:spPr>
          <a:xfrm>
            <a:off x="1476360" y="1557360"/>
            <a:ext cx="5975280" cy="2951280"/>
          </a:xfrm>
          <a:custGeom>
            <a:avLst/>
            <a:gdLst>
              <a:gd name="textAreaLeft" fmla="*/ 191160 w 5975280"/>
              <a:gd name="textAreaRight" fmla="*/ 5784120 w 5975280"/>
              <a:gd name="textAreaTop" fmla="*/ 191160 h 2951280"/>
              <a:gd name="textAreaBottom" fmla="*/ 2760120 h 2951280"/>
            </a:gdLst>
            <a:ahLst/>
            <a:rect l="textAreaLeft" t="textAreaTop" r="textAreaRight" b="textAreaBottom"/>
            <a:pathLst>
              <a:path w="43730" h="21600">
                <a:moveTo>
                  <a:pt x="0" y="0"/>
                </a:moveTo>
                <a:lnTo>
                  <a:pt x="43730" y="0"/>
                </a:lnTo>
                <a:lnTo>
                  <a:pt x="43730" y="21600"/>
                </a:lnTo>
                <a:lnTo>
                  <a:pt x="0" y="21600"/>
                </a:lnTo>
                <a:close/>
              </a:path>
              <a:path fill="lightenLess" w="43730" h="21600">
                <a:moveTo>
                  <a:pt x="0" y="0"/>
                </a:moveTo>
                <a:lnTo>
                  <a:pt x="43730" y="0"/>
                </a:lnTo>
                <a:lnTo>
                  <a:pt x="42330" y="1400"/>
                </a:lnTo>
                <a:lnTo>
                  <a:pt x="1400" y="1400"/>
                </a:lnTo>
                <a:close/>
              </a:path>
              <a:path fill="darken" w="43730" h="21600">
                <a:moveTo>
                  <a:pt x="43730" y="0"/>
                </a:moveTo>
                <a:lnTo>
                  <a:pt x="43730" y="21600"/>
                </a:lnTo>
                <a:lnTo>
                  <a:pt x="42330" y="20200"/>
                </a:lnTo>
                <a:lnTo>
                  <a:pt x="42330" y="1400"/>
                </a:lnTo>
                <a:close/>
              </a:path>
              <a:path fill="darkenLess" w="43730" h="21600">
                <a:moveTo>
                  <a:pt x="43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30" y="20200"/>
                </a:lnTo>
                <a:close/>
              </a:path>
              <a:path fill="lighten" w="43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30" h="21600">
                <a:moveTo>
                  <a:pt x="14858" y="7301"/>
                </a:moveTo>
                <a:lnTo>
                  <a:pt x="15772" y="7301"/>
                </a:lnTo>
                <a:lnTo>
                  <a:pt x="16155" y="7667"/>
                </a:lnTo>
                <a:lnTo>
                  <a:pt x="25364" y="7667"/>
                </a:lnTo>
                <a:lnTo>
                  <a:pt x="25921" y="8224"/>
                </a:lnTo>
                <a:lnTo>
                  <a:pt x="25921" y="8772"/>
                </a:lnTo>
                <a:lnTo>
                  <a:pt x="27766" y="8772"/>
                </a:lnTo>
                <a:lnTo>
                  <a:pt x="28131" y="8224"/>
                </a:lnTo>
                <a:lnTo>
                  <a:pt x="28871" y="8224"/>
                </a:lnTo>
                <a:lnTo>
                  <a:pt x="28871" y="13376"/>
                </a:lnTo>
                <a:lnTo>
                  <a:pt x="28131" y="13376"/>
                </a:lnTo>
                <a:lnTo>
                  <a:pt x="27766" y="12828"/>
                </a:lnTo>
                <a:lnTo>
                  <a:pt x="25921" y="12828"/>
                </a:lnTo>
                <a:lnTo>
                  <a:pt x="25921" y="14107"/>
                </a:lnTo>
                <a:lnTo>
                  <a:pt x="16338" y="14107"/>
                </a:lnTo>
                <a:lnTo>
                  <a:pt x="16338" y="9877"/>
                </a:lnTo>
                <a:lnTo>
                  <a:pt x="16155" y="9877"/>
                </a:lnTo>
                <a:lnTo>
                  <a:pt x="15772" y="10243"/>
                </a:lnTo>
                <a:lnTo>
                  <a:pt x="14858" y="1024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idade Par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olver os exercícios teóricos da página 170 (t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la pr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7/10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mem  em grupos de 5 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zer : suco de limão    10 mL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co de laranja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rigerante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dacinho de sabão em barra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bonete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ta de dente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nagre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ja 1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idades - Ag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ssar o meu wikispaces (http://quimicopolar.wikispaces.com/1%C2%BA+ANOB) e fazer a ativid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ww.labvirtq.fe.usp.br/simulacoes/quimica/sim_qui_indicadores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o podemos identifi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var toda e qualquer substância é um processo tolo e muito perigoso que jamais deve ser feito, para tal situação existe os chamado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dent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617400"/>
            <a:ext cx="19242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t3.gstatic.com/images?q=tbn:ANd9GcRBeeF8klzMcBHHagZfyZjQeDqrTmrE1WFqan4FQNpsMhcLb3E&amp;t=1&amp;h=167&amp;w=167&amp;usg=__-pbnUnAcVU-YnoqGzurY13LBn5c="/>
          <p:cNvPicPr/>
          <p:nvPr/>
        </p:nvPicPr>
        <p:blipFill>
          <a:blip r:embed="rId1"/>
          <a:stretch/>
        </p:blipFill>
        <p:spPr>
          <a:xfrm>
            <a:off x="2916360" y="3213000"/>
            <a:ext cx="3284280" cy="32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t3.gstatic.com/images?q=tbn:ANd9GcT5IA31DC71FvGxHuPv2i1yI2ZmWourruRfPTsCnfeQFxiEgmw&amp;t=1&amp;usg=__IypAzJ4r5bGsRUO9l3JCijDGIsI="/>
          <p:cNvPicPr/>
          <p:nvPr/>
        </p:nvPicPr>
        <p:blipFill>
          <a:blip r:embed="rId2"/>
          <a:stretch/>
        </p:blipFill>
        <p:spPr>
          <a:xfrm>
            <a:off x="5651640" y="3860640"/>
            <a:ext cx="3036600" cy="22780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155520" y="-617400"/>
            <a:ext cx="19242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55520" y="-708120"/>
            <a:ext cx="198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m 10" descr="repolho roxo.bmp"/>
          <p:cNvPicPr/>
          <p:nvPr/>
        </p:nvPicPr>
        <p:blipFill>
          <a:blip r:embed="rId3"/>
          <a:stretch/>
        </p:blipFill>
        <p:spPr>
          <a:xfrm>
            <a:off x="69840" y="3284640"/>
            <a:ext cx="3005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tencial Hidrogeniônico, índice que indica a acidez, Neutralidade, alcalinidade, valor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concentração de íons de Hidrogênio,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1.bp.blogspot.com/_4qz_2oX79GU/SqQUCcz572I/AAAAAAAAAII/T9x9v31qMw0/s400/escala%2520ph.jpg"/>
          <p:cNvPicPr/>
          <p:nvPr/>
        </p:nvPicPr>
        <p:blipFill>
          <a:blip r:embed="rId1"/>
          <a:stretch/>
        </p:blipFill>
        <p:spPr>
          <a:xfrm>
            <a:off x="1908000" y="3645000"/>
            <a:ext cx="46800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pel de tornas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0.gstatic.com/images?q=tbn:ANd9GcQRYsiTZE2RN-85fvdl4NcgCnxCJ-2YlZ3-jknItRrPjVh-B2Q&amp;t=1&amp;usg=__YUsrtsl-q2JWNTTVjd2T1xWPQGg="/>
          <p:cNvPicPr/>
          <p:nvPr/>
        </p:nvPicPr>
        <p:blipFill>
          <a:blip r:embed="rId1"/>
          <a:stretch/>
        </p:blipFill>
        <p:spPr>
          <a:xfrm>
            <a:off x="900000" y="1989000"/>
            <a:ext cx="4176720" cy="3961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5219640" y="319644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e tornassol azul = que muda de cor se for mergulhado em á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e tornassol vermelho = que muda a cor se for mergulhado em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2" descr="http://farm3.static.flickr.com/2259/2347580382_5104f6a767_o.jpg"/>
          <p:cNvPicPr/>
          <p:nvPr/>
        </p:nvPicPr>
        <p:blipFill>
          <a:blip r:embed="rId1"/>
          <a:stretch/>
        </p:blipFill>
        <p:spPr>
          <a:xfrm>
            <a:off x="0" y="1714680"/>
            <a:ext cx="3214800" cy="251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farm4.static.flickr.com/3162/2347576510_ab649d861b_o.jpg"/>
          <p:cNvPicPr/>
          <p:nvPr/>
        </p:nvPicPr>
        <p:blipFill>
          <a:blip r:embed="rId2"/>
          <a:stretch/>
        </p:blipFill>
        <p:spPr>
          <a:xfrm>
            <a:off x="5735520" y="1785960"/>
            <a:ext cx="3265560" cy="2492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22e87"/>
                </a:solidFill>
                <a:latin typeface="Arial"/>
              </a:rPr>
              <a:t>pH do solo e a coloração das pla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farm1.static.flickr.com/16/22389774_1354d4dcee.jpg?v=0"/>
          <p:cNvPicPr/>
          <p:nvPr/>
        </p:nvPicPr>
        <p:blipFill>
          <a:blip r:embed="rId3"/>
          <a:stretch/>
        </p:blipFill>
        <p:spPr>
          <a:xfrm>
            <a:off x="2714760" y="1714680"/>
            <a:ext cx="3524040" cy="2571480"/>
          </a:xfrm>
          <a:prstGeom prst="rect">
            <a:avLst/>
          </a:prstGeom>
          <a:ln w="0">
            <a:noFill/>
          </a:ln>
        </p:spPr>
      </p:pic>
      <p:sp>
        <p:nvSpPr>
          <p:cNvPr id="66" name="CaixaDeTexto 5"/>
          <p:cNvSpPr/>
          <p:nvPr/>
        </p:nvSpPr>
        <p:spPr>
          <a:xfrm>
            <a:off x="500040" y="435780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o ácido                             Solo neutro                                     Solo 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209680" y="152280"/>
            <a:ext cx="4724640" cy="533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cff33"/>
                </a:solidFill>
                <a:latin typeface="Arial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33520" y="5759280"/>
            <a:ext cx="4038480" cy="489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pt-PT" sz="2600" spc="-1" strike="noStrike">
                <a:solidFill>
                  <a:srgbClr val="003300"/>
                </a:solidFill>
                <a:latin typeface="Arial"/>
              </a:rPr>
              <a:t>Solução eletrolít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00200" y="914400"/>
            <a:ext cx="5943600" cy="1373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00"/>
                </a:solidFill>
                <a:latin typeface="Arial"/>
              </a:rPr>
              <a:t>Condutibilidade das Soluções</a:t>
            </a:r>
            <a:r>
              <a:rPr b="1" lang="pt-BR" sz="28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pt-PT" sz="2800" spc="-1" strike="noStrike">
                <a:solidFill>
                  <a:srgbClr val="003300"/>
                </a:solidFill>
                <a:latin typeface="Arial"/>
              </a:rPr>
              <a:t>                        </a:t>
            </a:r>
            <a:r>
              <a:rPr b="1" lang="pt-BR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003300"/>
                </a:solidFill>
                <a:latin typeface="Times New Roman"/>
              </a:rPr>
              <a:t>As experiências do Químico Arrhen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7"/>
          <p:cNvGrpSpPr/>
          <p:nvPr/>
        </p:nvGrpSpPr>
        <p:grpSpPr>
          <a:xfrm>
            <a:off x="762120" y="2133720"/>
            <a:ext cx="3504960" cy="3352680"/>
            <a:chOff x="762120" y="2133720"/>
            <a:chExt cx="3504960" cy="3352680"/>
          </a:xfrm>
        </p:grpSpPr>
        <p:sp>
          <p:nvSpPr>
            <p:cNvPr id="71" name="Rectangle 8"/>
            <p:cNvSpPr/>
            <p:nvPr/>
          </p:nvSpPr>
          <p:spPr>
            <a:xfrm>
              <a:off x="1143000" y="3581280"/>
              <a:ext cx="1523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1143000" y="4038480"/>
              <a:ext cx="152388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2057400" y="3200400"/>
              <a:ext cx="1522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1600200" y="3200400"/>
              <a:ext cx="1522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2"/>
            <p:cNvSpPr/>
            <p:nvPr/>
          </p:nvSpPr>
          <p:spPr>
            <a:xfrm flipV="1">
              <a:off x="213372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3"/>
            <p:cNvSpPr/>
            <p:nvPr/>
          </p:nvSpPr>
          <p:spPr>
            <a:xfrm>
              <a:off x="2133720" y="2971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4"/>
            <p:cNvSpPr/>
            <p:nvPr/>
          </p:nvSpPr>
          <p:spPr>
            <a:xfrm flipV="1">
              <a:off x="167652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5"/>
            <p:cNvSpPr/>
            <p:nvPr/>
          </p:nvSpPr>
          <p:spPr>
            <a:xfrm flipH="1">
              <a:off x="762120" y="2971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6"/>
            <p:cNvSpPr/>
            <p:nvPr/>
          </p:nvSpPr>
          <p:spPr>
            <a:xfrm>
              <a:off x="762120" y="2971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7"/>
            <p:cNvSpPr/>
            <p:nvPr/>
          </p:nvSpPr>
          <p:spPr>
            <a:xfrm flipV="1">
              <a:off x="4267080" y="2971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8"/>
            <p:cNvSpPr/>
            <p:nvPr/>
          </p:nvSpPr>
          <p:spPr>
            <a:xfrm>
              <a:off x="3200400" y="2971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3124080" y="2362320"/>
              <a:ext cx="228600" cy="533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0"/>
            <p:cNvSpPr/>
            <p:nvPr/>
          </p:nvSpPr>
          <p:spPr>
            <a:xfrm>
              <a:off x="3200400" y="2819520"/>
              <a:ext cx="7632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1"/>
            <p:cNvSpPr/>
            <p:nvPr/>
          </p:nvSpPr>
          <p:spPr>
            <a:xfrm flipV="1">
              <a:off x="3429000" y="236196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 flipH="1" flipV="1">
              <a:off x="2819160" y="236196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304812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4"/>
            <p:cNvSpPr/>
            <p:nvPr/>
          </p:nvSpPr>
          <p:spPr>
            <a:xfrm flipH="1">
              <a:off x="32763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5"/>
            <p:cNvSpPr/>
            <p:nvPr/>
          </p:nvSpPr>
          <p:spPr>
            <a:xfrm>
              <a:off x="762120" y="51814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6"/>
            <p:cNvSpPr/>
            <p:nvPr/>
          </p:nvSpPr>
          <p:spPr>
            <a:xfrm>
              <a:off x="335268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 flipH="1">
              <a:off x="358092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8"/>
            <p:cNvSpPr/>
            <p:nvPr/>
          </p:nvSpPr>
          <p:spPr>
            <a:xfrm>
              <a:off x="3581280" y="4876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9"/>
            <p:cNvSpPr/>
            <p:nvPr/>
          </p:nvSpPr>
          <p:spPr>
            <a:xfrm>
              <a:off x="1143000" y="447984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NaCl + H</a:t>
              </a:r>
              <a:r>
                <a:rPr b="1" lang="pt-P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0"/>
          <p:cNvGrpSpPr/>
          <p:nvPr/>
        </p:nvGrpSpPr>
        <p:grpSpPr>
          <a:xfrm>
            <a:off x="4952880" y="2362320"/>
            <a:ext cx="3505320" cy="3124080"/>
            <a:chOff x="4952880" y="2362320"/>
            <a:chExt cx="3505320" cy="3124080"/>
          </a:xfrm>
        </p:grpSpPr>
        <p:sp>
          <p:nvSpPr>
            <p:cNvPr id="94" name="Rectangle 31"/>
            <p:cNvSpPr/>
            <p:nvPr/>
          </p:nvSpPr>
          <p:spPr>
            <a:xfrm>
              <a:off x="5334120" y="3581280"/>
              <a:ext cx="1523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2"/>
            <p:cNvSpPr/>
            <p:nvPr/>
          </p:nvSpPr>
          <p:spPr>
            <a:xfrm>
              <a:off x="5334120" y="4038480"/>
              <a:ext cx="152388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3"/>
            <p:cNvSpPr/>
            <p:nvPr/>
          </p:nvSpPr>
          <p:spPr>
            <a:xfrm>
              <a:off x="6248520" y="3200400"/>
              <a:ext cx="1522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4"/>
            <p:cNvSpPr/>
            <p:nvPr/>
          </p:nvSpPr>
          <p:spPr>
            <a:xfrm>
              <a:off x="5791320" y="3200400"/>
              <a:ext cx="15228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 flipV="1">
              <a:off x="63244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6324480" y="2971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8672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4952880" y="2971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9"/>
            <p:cNvSpPr/>
            <p:nvPr/>
          </p:nvSpPr>
          <p:spPr>
            <a:xfrm>
              <a:off x="4952880" y="2971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0"/>
            <p:cNvSpPr/>
            <p:nvPr/>
          </p:nvSpPr>
          <p:spPr>
            <a:xfrm>
              <a:off x="4952880" y="51814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1"/>
            <p:cNvSpPr/>
            <p:nvPr/>
          </p:nvSpPr>
          <p:spPr>
            <a:xfrm flipV="1">
              <a:off x="8458200" y="2971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2"/>
            <p:cNvSpPr/>
            <p:nvPr/>
          </p:nvSpPr>
          <p:spPr>
            <a:xfrm>
              <a:off x="7391520" y="2971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3"/>
            <p:cNvSpPr/>
            <p:nvPr/>
          </p:nvSpPr>
          <p:spPr>
            <a:xfrm>
              <a:off x="7315200" y="2362320"/>
              <a:ext cx="228600" cy="533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4"/>
            <p:cNvSpPr/>
            <p:nvPr/>
          </p:nvSpPr>
          <p:spPr>
            <a:xfrm>
              <a:off x="7391520" y="2819520"/>
              <a:ext cx="759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5"/>
            <p:cNvSpPr/>
            <p:nvPr/>
          </p:nvSpPr>
          <p:spPr>
            <a:xfrm>
              <a:off x="754380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6"/>
            <p:cNvSpPr/>
            <p:nvPr/>
          </p:nvSpPr>
          <p:spPr>
            <a:xfrm flipH="1">
              <a:off x="777204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7"/>
            <p:cNvSpPr/>
            <p:nvPr/>
          </p:nvSpPr>
          <p:spPr>
            <a:xfrm>
              <a:off x="7772400" y="4876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5334120" y="4495680"/>
              <a:ext cx="175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açucar + H</a:t>
              </a:r>
              <a:r>
                <a:rPr b="1" lang="pt-P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49"/>
          <p:cNvSpPr/>
          <p:nvPr/>
        </p:nvSpPr>
        <p:spPr>
          <a:xfrm>
            <a:off x="4724280" y="5759280"/>
            <a:ext cx="4038840" cy="489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3300"/>
                </a:solidFill>
                <a:latin typeface="Arial"/>
              </a:rPr>
              <a:t>Solução não eletrolí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7876440" y="6302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ra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Moises\Pictures\2010-10-05\001.jpg"/>
          <p:cNvPicPr/>
          <p:nvPr/>
        </p:nvPicPr>
        <p:blipFill>
          <a:blip r:embed="rId1"/>
          <a:stretch/>
        </p:blipFill>
        <p:spPr>
          <a:xfrm>
            <a:off x="47520" y="765000"/>
            <a:ext cx="90964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rque o NaCl e HCl não conduzem corrente quando sólidos ou liquid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rrente elétrica é um fluxo ordenado de cargas elétricas, ou seja com í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3"/>
          <p:cNvSpPr/>
          <p:nvPr/>
        </p:nvSpPr>
        <p:spPr>
          <a:xfrm>
            <a:off x="907920" y="429264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eta para a direita 4"/>
          <p:cNvSpPr/>
          <p:nvPr/>
        </p:nvSpPr>
        <p:spPr>
          <a:xfrm>
            <a:off x="2627280" y="4437000"/>
            <a:ext cx="2808360" cy="72072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ângulo 5"/>
          <p:cNvSpPr/>
          <p:nvPr/>
        </p:nvSpPr>
        <p:spPr>
          <a:xfrm>
            <a:off x="3434040" y="4005360"/>
            <a:ext cx="92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6"/>
          <p:cNvSpPr/>
          <p:nvPr/>
        </p:nvSpPr>
        <p:spPr>
          <a:xfrm>
            <a:off x="5694120" y="4292640"/>
            <a:ext cx="30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pt-BR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pt-BR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7"/>
          <p:cNvSpPr/>
          <p:nvPr/>
        </p:nvSpPr>
        <p:spPr>
          <a:xfrm>
            <a:off x="324000" y="5373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mpostos Iônicos + água = </a:t>
            </a:r>
            <a:r>
              <a:rPr b="0" lang="pt-BR" sz="2400" spc="-1" strike="noStrike">
                <a:solidFill>
                  <a:srgbClr val="0070c0"/>
                </a:solidFill>
                <a:latin typeface="Arial"/>
              </a:rPr>
              <a:t>dissociação iônic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, separação dos íons de uma substancia, que acontece quando ela se dissolve em á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6T02:19:15Z</dcterms:created>
  <dc:creator>Cliente</dc:creator>
  <dc:description/>
  <dc:language>en-US</dc:language>
  <cp:lastModifiedBy>Moises</cp:lastModifiedBy>
  <dcterms:modified xsi:type="dcterms:W3CDTF">2010-10-06T02:14:49Z</dcterms:modified>
  <cp:revision>83</cp:revision>
  <dc:subject/>
  <dc:title>CLASSIFICAÇÃO DOS ÁCIDOS</dc:title>
</cp:coreProperties>
</file>